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8D2-D295-4B4B-BB08-E54A9A4F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DCEA-DDDA-4595-89FD-906E0672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6D5-EA21-4505-8720-6B5E285D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246-AD30-4DF8-BCEE-23C0CC4F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98F-E256-42A2-B9BA-99836940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561-AA07-4EB0-AA92-F4E065C0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6D7-2580-4BAD-8133-7CE1082D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C97-39B9-4A89-8686-48E58165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9B0-C1FC-48C5-81FA-3C12532F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DF0-F825-4C8B-B7AC-2B62A173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3D80-0B17-43D8-B270-A293E3B2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80A-D100-44D4-9568-6C92B887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3238-F31B-48A4-A342-D0EB412C3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9:21:34Z</dcterms:created>
  <dc:creator>SD45</dc:creator>
  <dc:description/>
  <dc:language>en-US</dc:language>
  <cp:lastModifiedBy>SD45</cp:lastModifiedBy>
  <dcterms:modified xsi:type="dcterms:W3CDTF">2008-02-27T19:35:31Z</dcterms:modified>
  <cp:revision>1</cp:revision>
  <dc:subject/>
  <dc:title>Slide 1</dc:title>
</cp:coreProperties>
</file>